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5663-E24C-4626-9BE5-BD44C9D7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C888-159E-4D97-BC3A-B9D963CE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D827-675B-4A20-AC47-0EDF86AC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C816-E2F3-4A22-822F-0794B5CF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6BB3-B0BD-418D-B2A7-144662A7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29DB-ECC6-4DF9-8B43-65A51524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72C5-F8EF-4652-B44E-F0D05807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5C02-84F5-4FD7-BCFF-AB762C51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FB08-A22F-403A-B305-B602108D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188A-53F8-4410-91B7-6E95E6F0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744C-B842-4ABA-809F-00AE2FEC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D9F9-D7C4-4DD4-A0EC-AE2EC1E2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C1DD-89B6-4408-B0F6-F9D038BFC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32000" y="271440"/>
            <a:ext cx="6276960" cy="623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708280" y="1612800"/>
          <a:ext cx="3586320" cy="347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8280" y="1612800"/>
                    <a:ext cx="3586320" cy="34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 flipH="1">
            <a:off x="4743360" y="865080"/>
            <a:ext cx="36720" cy="100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41880" y="903240"/>
            <a:ext cx="201600" cy="9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4943520" y="930240"/>
            <a:ext cx="263520" cy="9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186160" y="879480"/>
            <a:ext cx="541080" cy="10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406840" y="892080"/>
            <a:ext cx="779400" cy="9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619240" y="798480"/>
            <a:ext cx="1282680" cy="10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6149880" y="1273320"/>
            <a:ext cx="1077840" cy="10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097680" y="1754280"/>
            <a:ext cx="1185840" cy="83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073560" y="2244600"/>
            <a:ext cx="106668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082920" y="2674800"/>
            <a:ext cx="1019160" cy="3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130440" y="3143160"/>
            <a:ext cx="878040" cy="10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6167160" y="3500280"/>
            <a:ext cx="88740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6154200" y="3757680"/>
            <a:ext cx="8528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6121080" y="3966840"/>
            <a:ext cx="934920" cy="58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6107040" y="4163760"/>
            <a:ext cx="87624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6073560" y="4408200"/>
            <a:ext cx="912600" cy="10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606640" y="4901760"/>
            <a:ext cx="117468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394240" y="4898520"/>
            <a:ext cx="80496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5173560" y="4925880"/>
            <a:ext cx="51768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4941360" y="4913280"/>
            <a:ext cx="274680" cy="9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4695480" y="4950000"/>
            <a:ext cx="142920" cy="10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08480" y="4951080"/>
            <a:ext cx="157320" cy="10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95840" y="4960440"/>
            <a:ext cx="431640" cy="87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368520" y="4950000"/>
            <a:ext cx="633600" cy="89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89360" y="4962600"/>
            <a:ext cx="896760" cy="8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330280" y="4938840"/>
            <a:ext cx="1186200" cy="10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60640" y="917640"/>
            <a:ext cx="393840" cy="9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79680" y="884160"/>
            <a:ext cx="681120" cy="97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09880" y="798480"/>
            <a:ext cx="851040" cy="10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41720" y="811080"/>
            <a:ext cx="1269720" cy="102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32120" y="1262160"/>
            <a:ext cx="1066680" cy="10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22480" y="1763640"/>
            <a:ext cx="993600" cy="8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70000" y="2171880"/>
            <a:ext cx="935280" cy="70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62080" y="2735280"/>
            <a:ext cx="99396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93760" y="3119400"/>
            <a:ext cx="93528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075040" y="3500280"/>
            <a:ext cx="95868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087640" y="3755520"/>
            <a:ext cx="96984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097000" y="3979440"/>
            <a:ext cx="93528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050920" y="4249440"/>
            <a:ext cx="947880" cy="78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085840" y="4457880"/>
            <a:ext cx="970200" cy="10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76600" y="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54320" y="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9920" y="6553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81280" y="6553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63400" y="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25280" y="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87520" y="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09040" y="23184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31680" y="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42440" y="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53560" y="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81200" y="28116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43560" y="6340320"/>
            <a:ext cx="63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t.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22800" y="6340320"/>
            <a:ext cx="55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dd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93480" y="10666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93480" y="156672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94200" y="204300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M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42080" y="24541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93480" y="294156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92760" y="342900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92760" y="39164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92760" y="437184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P-R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92400" y="48402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P-L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92400" y="5302080"/>
            <a:ext cx="107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-R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92400" y="5818320"/>
            <a:ext cx="10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-L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8640" y="10447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9000" y="154476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9720" y="202104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M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7240" y="2432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8640" y="291924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8280" y="34066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8280" y="38941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8280" y="434988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P-R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7920" y="481824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P-L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7920" y="5280120"/>
            <a:ext cx="107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-R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7560" y="5796000"/>
            <a:ext cx="10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-L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0" y="0"/>
            <a:ext cx="12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12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15:04:31Z</dcterms:created>
  <dc:creator>cal2d</dc:creator>
  <dc:description/>
  <dc:language>en-US</dc:language>
  <cp:lastModifiedBy>Brandon</cp:lastModifiedBy>
  <dcterms:modified xsi:type="dcterms:W3CDTF">2006-06-06T18:21:06Z</dcterms:modified>
  <cp:revision>18</cp:revision>
  <dc:subject/>
  <dc:title>PowerPoint Presentation</dc:title>
</cp:coreProperties>
</file>